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1DC-B478-4852-B8E8-C010EE2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C80-4A47-4AE7-A570-97682093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7B7-A053-4D7A-92B3-E885AC35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437-4456-485E-8BE7-EBC281DF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20E-FFDE-4BE2-BC2A-635CA3E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FB9-EC95-477A-BBDE-728F39A1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523-57E8-4FAD-B785-DE80961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298-CE72-47BB-A8AD-7F404C3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A37-22EB-4F68-9846-BF10A78F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1C2-07D9-45C0-A94E-13C542D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A0B-FF75-4F3D-95DE-8D8F8F3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302-9B0F-4F39-8854-A303177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934-4495-488B-83FF-194FF1EA0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52680" y="30492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ce were you make some dissection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86000" y="2666880"/>
            <a:ext cx="4267080" cy="2562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k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99.8% Islam .2% Christia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antimony, coal, chromium, mercu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352680" y="648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ock tower in Turke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Flag of Turkey"/>
          <p:cNvPicPr/>
          <p:nvPr/>
        </p:nvPicPr>
        <p:blipFill>
          <a:blip r:embed="rId1"/>
          <a:stretch/>
        </p:blipFill>
        <p:spPr>
          <a:xfrm>
            <a:off x="3029040" y="4986360"/>
            <a:ext cx="2146320" cy="31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Map of Turkey"/>
          <p:cNvPicPr/>
          <p:nvPr/>
        </p:nvPicPr>
        <p:blipFill>
          <a:blip r:embed="rId2"/>
          <a:stretch/>
        </p:blipFill>
        <p:spPr>
          <a:xfrm>
            <a:off x="-6480" y="-6480"/>
            <a:ext cx="3670560" cy="253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Map of Turkey"/>
          <p:cNvPicPr/>
          <p:nvPr/>
        </p:nvPicPr>
        <p:blipFill>
          <a:blip r:embed="rId3"/>
          <a:stretch/>
        </p:blipFill>
        <p:spPr>
          <a:xfrm>
            <a:off x="5479920" y="-6480"/>
            <a:ext cx="367056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228600" y="6477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ga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Antalya, Turkey photo"/>
          <p:cNvPicPr/>
          <p:nvPr/>
        </p:nvPicPr>
        <p:blipFill>
          <a:blip r:embed="rId4"/>
          <a:stretch/>
        </p:blipFill>
        <p:spPr>
          <a:xfrm>
            <a:off x="6589800" y="1901880"/>
            <a:ext cx="2577960" cy="384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lock tower, Izmir, Turkey photo"/>
          <p:cNvPicPr/>
          <p:nvPr/>
        </p:nvPicPr>
        <p:blipFill>
          <a:blip r:embed="rId5"/>
          <a:stretch/>
        </p:blipFill>
        <p:spPr>
          <a:xfrm>
            <a:off x="0" y="3352680"/>
            <a:ext cx="232560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14"/>
          <p:cNvSpPr/>
          <p:nvPr/>
        </p:nvSpPr>
        <p:spPr>
          <a:xfrm>
            <a:off x="67816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lya,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6" descr="Ancient agora of Smyrna, Izmir, Turkey photo"/>
          <p:cNvPicPr/>
          <p:nvPr/>
        </p:nvPicPr>
        <p:blipFill>
          <a:blip r:embed="rId6"/>
          <a:stretch/>
        </p:blipFill>
        <p:spPr>
          <a:xfrm>
            <a:off x="6699240" y="4645080"/>
            <a:ext cx="2451240" cy="1847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0"/>
          <p:cNvSpPr/>
          <p:nvPr/>
        </p:nvSpPr>
        <p:spPr>
          <a:xfrm>
            <a:off x="6400800" y="6477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agora of Smy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5:32:42Z</dcterms:modified>
  <cp:revision>21</cp:revision>
  <dc:subject/>
  <dc:title>Slide 1</dc:title>
</cp:coreProperties>
</file>